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7BB-62BD-4242-A15F-00911807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B7B-A77B-48A5-B8B3-0200D0BA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66F-50C0-4BCE-B307-74302558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482-51FE-4B74-B679-667E7236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A2C-CAE6-4656-ABA1-97E4FE3B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CAA-48D7-45B0-A62C-6AAEB5DB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687-F719-4DED-B623-C3975BD2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2BE-BC5F-43A5-BA79-454A1770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3AD-D1F4-44BD-B6AA-D4C5F589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292-2BB3-466A-BB3B-4C7F52B8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C45-E7AF-4171-AEF8-D22C33C0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9AA-B598-4EA2-9963-AF8C2E05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1D6F-82BD-4374-B2C3-38A9B0D7B2B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24680" y="5873760"/>
            <a:ext cx="39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9.08.1864 – 2.01.1939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Dmowski"/>
          <p:cNvPicPr/>
          <p:nvPr/>
        </p:nvPicPr>
        <p:blipFill>
          <a:blip r:embed="rId1"/>
          <a:stretch/>
        </p:blipFill>
        <p:spPr>
          <a:xfrm>
            <a:off x="2484360" y="189000"/>
            <a:ext cx="3694320" cy="5532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208320" y="6434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36:41Z</dcterms:created>
  <dc:creator>IB</dc:creator>
  <dc:description/>
  <dc:language>en-US</dc:language>
  <cp:lastModifiedBy>rena</cp:lastModifiedBy>
  <dcterms:modified xsi:type="dcterms:W3CDTF">2013-03-05T18:46:53Z</dcterms:modified>
  <cp:revision>7</cp:revision>
  <dc:subject/>
  <dc:title>Slajd 1</dc:title>
</cp:coreProperties>
</file>